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850EE-9B22-4ED4-B32D-DF86CFC7B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D57FE-17CC-4EC8-896E-B88585EB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87630-2ECB-49FD-90C7-2D8FEA32D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3392B-ECCC-4660-8606-CDB5C9516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D4B0F-4567-4C8A-BE43-9D1BE15A0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BA0B-450E-4666-9815-8B5E7A84A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344DA-CAD6-498E-A30A-0B8E24F2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CD425-E1CA-4DB4-A986-BF3C9432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4635F-E0E0-4235-8251-7376434A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975CC-ECE1-4C42-9404-E1B1E527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21746-D4F0-4402-9592-61B20825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1F415-AB9C-413B-8299-9719167F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C085E-CD3D-4F70-8C87-B29C4899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489E-49DC-4D89-87E4-F8DC6181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DCAC0-14E4-4280-BD24-C06503C1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89A68-BEF0-4C60-8826-70914F485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6DE7B-8F06-43A2-A521-BBFFF302C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F57CD-D8B4-4255-8A76-11C2D5C8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F1170-6DC3-441F-B57A-30DE9E52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032AC-FC28-40A5-BA6D-B77D4AB4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29558-D3A6-4053-879B-D3D404B6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909C7-DF4A-48A7-A909-BB13E485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F1A93-DA51-4DEF-BA48-CBC157B2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29400-CD0E-4A7A-A5FF-55C47760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EA07-5F7F-4691-B83E-5D7C14FD996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8011-BB6D-4F48-ABF4-A401B7847A0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Vocabulary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atelyn !!!(: Brandie!!! (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rs. Chamb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Decimal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eriod that separate the whole number from a frac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6.10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Fraction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y part of a group, Number or whol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ercent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A number out of a hundre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3:58:57Z</dcterms:created>
  <dc:creator>katelyn.marshall</dc:creator>
  <dc:description/>
  <dc:language>en-US</dc:language>
  <cp:lastModifiedBy>katelyn.marshall</cp:lastModifiedBy>
  <dcterms:modified xsi:type="dcterms:W3CDTF">2010-11-23T14:34:51Z</dcterms:modified>
  <cp:revision>2</cp:revision>
  <dc:subject/>
  <dc:title>Slide 1</dc:title>
</cp:coreProperties>
</file>